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2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0.xml"/><Relationship Id="rId3" Type="http://schemas.openxmlformats.org/officeDocument/2006/relationships/slide" Target="slide1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1.xml"/><Relationship Id="rId3" Type="http://schemas.openxmlformats.org/officeDocument/2006/relationships/slide" Target="slide13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9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4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mplexgebunde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zium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3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onisier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Kalzium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kalz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4880" y="54936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kalz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5" idx="3"/>
            <a:endCxn id="156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efäß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urchlässigk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84320" y="549360"/>
            <a:ext cx="73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omplexgebundenes Kalzium ↓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Transportprotei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Gefäßdurchlässigk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84320" y="549360"/>
            <a:ext cx="73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omplexgebundenes Kalzium ↓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Transportprotei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Gefäßdurchlässigkei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9" idx="3"/>
            <a:endCxn id="16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84320" y="549360"/>
            <a:ext cx="73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omplexgebundenes Kalzium ↓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Transportprotei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Verlust über 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5" idx="3"/>
            <a:endCxn id="16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otein-Losing-Nephropath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onisiert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zium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70" idx="3"/>
            <a:endCxn id="172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3" name=""/>
          <p:cNvCxnSpPr>
            <a:stCxn id="170" idx="3"/>
            <a:endCxn id="17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0" idx="3"/>
            <a:endCxn id="175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schei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fnahme a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der Nahr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74520" y="549360"/>
            <a:ext cx="40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onisiertes Kalzium ↓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a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Nahr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Resorptio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9" idx="3"/>
            <a:endCxn id="182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3" name=""/>
          <p:cNvCxnSpPr>
            <a:stCxn id="179" idx="3"/>
            <a:endCxn id="18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1071360" y="549360"/>
            <a:ext cx="73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onisiertes Kalzium ↓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fnahme aus der Nahr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ziumgeha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 Futt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sorptio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ovitaminose 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6" idx="3"/>
            <a:endCxn id="18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0" name=""/>
          <p:cNvCxnSpPr>
            <a:stCxn id="186" idx="3"/>
            <a:endCxn id="18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1070640" y="549360"/>
            <a:ext cx="75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onisiertes Kalzium ↓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fnahme aus der Nahr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Resorptio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3" idx="3"/>
            <a:endCxn id="19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7" name=""/>
          <p:cNvCxnSpPr>
            <a:stCxn id="193" idx="3"/>
            <a:endCxn id="19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070640" y="549360"/>
            <a:ext cx="75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onisiertes Kalzium ↓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fnahme aus der Nahr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Resorptio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200" idx="3"/>
            <a:endCxn id="202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03" name=""/>
          <p:cNvCxnSpPr>
            <a:stCxn id="200" idx="3"/>
            <a:endCxn id="204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okri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kreas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säure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ole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0640" y="549360"/>
            <a:ext cx="75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onisiertes Kalzium ↓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fnahme aus der Nahr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orptio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8" idx="3"/>
            <a:endCxn id="20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70640" y="549360"/>
            <a:ext cx="75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onisiertes Kalzium ↓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fnahme aus der Nahr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Resorptio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2" idx="3"/>
            <a:endCxn id="21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15" name=""/>
          <p:cNvCxnSpPr>
            <a:stCxn id="212" idx="3"/>
            <a:endCxn id="216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fall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parasi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70640" y="549360"/>
            <a:ext cx="752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onisiertes Kalzium ↓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fnahme aus der Nahr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orptio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lassimila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Malabsorptio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mplexgebunde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zium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Transportprotein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2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1880" y="549360"/>
            <a:ext cx="50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omplexgebundenes Kalzium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5" action="ppaction://hlinksldjump"/>
              </a:rPr>
              <a:t>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vitaminose 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3"/>
            <a:endCxn id="22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22" name=""/>
          <p:cNvCxnSpPr>
            <a:stCxn id="219" idx="3"/>
            <a:endCxn id="223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halt im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tt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0640" y="549360"/>
            <a:ext cx="75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onisiertes Kalzium ↓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fnahme aus der Nahr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orptio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vitaminose 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Produktion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der Nier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duktion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Nier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70640" y="549360"/>
            <a:ext cx="75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onisiertes Kalzium ↓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fnahme aus der Nahr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Resorptio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vitaminose D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Produktion in der Nier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3"/>
            <a:endCxn id="22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ereninsuffizienz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geboren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enetische Rach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schei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1" idx="3"/>
            <a:endCxn id="234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35" name=""/>
          <p:cNvCxnSpPr>
            <a:stCxn id="231" idx="3"/>
            <a:endCxn id="23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1045440" y="549360"/>
            <a:ext cx="58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onisiertes Kalzium ↓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sschei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o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arathyreoidis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8" idx="3"/>
            <a:endCxn id="23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241" name=""/>
          <p:cNvCxnSpPr>
            <a:stCxn id="238" idx="3"/>
            <a:endCxn id="242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1044720" y="549360"/>
            <a:ext cx="60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onisiertes Kalzium ↓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usscheidung ↑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5200" y="549360"/>
            <a:ext cx="65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ionisiertes Kalzium ↓  &gt; Ausscheidung ↑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iereninsuffizienz &gt; akute 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3"/>
            <a:endCxn id="24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4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sch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ptospi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fnahme von Toxi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Ethylenglyko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osinen, Weintraube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6640" y="549360"/>
            <a:ext cx="58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ionisiertes Kalzium ↓  &gt; Verbrauch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1" idx="3"/>
            <a:endCxn id="25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kta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ächtigkeit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11" idx="3"/>
            <a:endCxn id="11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nsportprotei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040" y="549360"/>
            <a:ext cx="714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komplexgebundenes Kalzium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Transportprotei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8" idx="3"/>
            <a:endCxn id="11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9" name=""/>
          <p:cNvCxnSpPr>
            <a:stCxn id="118" idx="3"/>
            <a:endCxn id="11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1084320" y="549360"/>
            <a:ext cx="73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omplexgebundenes Kalzium ↓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ransportprotei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ynthes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2" idx="3"/>
            <a:endCxn id="125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6" name=""/>
          <p:cNvCxnSpPr>
            <a:stCxn id="122" idx="3"/>
            <a:endCxn id="12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inauf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 Nahr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icht relevant be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leinti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549360"/>
            <a:ext cx="73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omplexgebundenes Kalzium ↓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ransportprotei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nthes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3"/>
            <a:endCxn id="13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3" name=""/>
          <p:cNvCxnSpPr>
            <a:stCxn id="129" idx="3"/>
            <a:endCxn id="13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1084320" y="549360"/>
            <a:ext cx="73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omplexgebundenes Kalzium ↓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ransportprotei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Synthese in 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7" idx="3"/>
            <a:endCxn id="138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ortosystem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hu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5040" y="54936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omplexgebundenes Kalzium ↓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Transportprotei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ynthese in der Leber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84320" y="549360"/>
            <a:ext cx="734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omplexgebundenes Kalzium ↓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Transportprotei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Synthese in der Leber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ber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1" idx="3"/>
            <a:endCxn id="14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zirrh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ymph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fäß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rchlässigkeit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erlust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7" idx="3"/>
            <a:endCxn id="14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1" name=""/>
          <p:cNvCxnSpPr>
            <a:stCxn id="147" idx="3"/>
            <a:endCxn id="14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1084320" y="549360"/>
            <a:ext cx="73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kalz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komplexgebundenes Kalzium ↓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ransportprotei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Hypoalbuminäm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2:50:43Z</dcterms:modified>
  <cp:revision>332</cp:revision>
  <dc:subject/>
  <dc:title>Vorstellung einer Neuheit</dc:title>
</cp:coreProperties>
</file>